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D36-6F2B-4F10-AD05-E5C53BE3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CBA-BE15-4D61-99EF-989F1C8A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802-5807-4B94-8273-7234882A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0CA-8572-4CA6-A8CE-68818673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B8B-C43F-4028-A107-9FABA5C5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3D6-6FD7-453E-B198-3D266E12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609-EE3C-4DCA-ADB7-703AC9CD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BDC-220E-466C-A2D8-8DA46857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008-82D8-4A23-A408-013A8CC8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108-B789-41A7-8AE8-7B2F95CE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983-8ED5-495D-A50F-C6FD31B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655-B2BA-4766-9FFD-DA90028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4585-65D4-41F0-B4CA-0246ADF73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3457440"/>
            <a:ext cx="5095800" cy="340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2578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8:44:38Z</dcterms:created>
  <dc:creator>Kononovich Eugeny</dc:creator>
  <dc:description/>
  <dc:language>en-US</dc:language>
  <cp:lastModifiedBy>Kononovich Eugeny</cp:lastModifiedBy>
  <dcterms:modified xsi:type="dcterms:W3CDTF">2005-08-31T08:45:12Z</dcterms:modified>
  <cp:revision>1</cp:revision>
  <dc:subject/>
  <dc:title>PowerPoint Presentation</dc:title>
</cp:coreProperties>
</file>